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DEA0D-873E-4B9C-B9CB-3B59D159C3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:  http://biology.kenyon.edu/courses/biol114/KH_lecture_images/How_DNA_works/how_DNA-work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http://textbookofbacteriology.net/phage.html)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discovermagazine.com/2009/apr/28-next-miracle-antibiotic-could-spawn-next-superbu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forbes.com/sites/daviddisalvo/2011/11/22/whats-your-dna-worth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casciottichr.edu.glogster.com/ch-11-glo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iss physici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uni-tuebingen.de/ziegler/history/friedrich_miescher/friedrich_miescher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http://www.thefullwiki.org/Griffiths_experiment)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20FC-D047-4EB0-94E6-660D2571D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114A-DA8E-45D5-A916-FCF67568B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23BE-F047-4437-B1F4-44F75C508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5927-CEF1-4D1C-A2FD-5036AA247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88B3-7446-4CEA-ABC2-E0A5916F2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3EEB-0A98-4F6A-AAF6-3ADEA1873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AB34-64CC-42F6-B1F5-A402252D7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D398-AC23-45CF-814D-9FEA761CB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7D9B-A70A-4171-A99E-04F4C74DC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93EA-F4A4-49F3-A82E-69AF314C8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9589-5651-49A3-BBBD-E5C36B035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DF92-50E7-4C02-86E8-D11DC7FEA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493DD-B633-49E0-B0A6-C8FC0AC354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highered.mcgraw-hill.com/sites/0072437316/student_view0/chapter14/animations.html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dnaftb.org/dnaftb/15/concept/" TargetMode="Externa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sinauer.com/cooper5e/animation0402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Molecular Basis of Inherit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18000" y="2897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very, McLeod, McCar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828800" y="1981080"/>
            <a:ext cx="54849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fred Hershey &amp; Martha Chase (195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ein or DN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riments with virus:  bacteriophage T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648320" y="2784600"/>
            <a:ext cx="3809880" cy="25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407960" y="609480"/>
            <a:ext cx="63280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108160" y="609480"/>
            <a:ext cx="49258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 or Protei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rrated animation of Hershey &amp; Chase experime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highered.mcgraw-hill.com/sites/0072437316/student_view0/chapter14/animations.html#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DN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828800" y="198108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egor Men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922480" y="1981080"/>
            <a:ext cx="32990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rms &amp; Concep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e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karyotic DNA vs. prokaryotic 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 Structure &amp; Function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Hi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ederick Miesc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192480" y="1981080"/>
            <a:ext cx="2757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iedrich Miescher (1868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ested in the composition of the cell nucle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lected used bandages from hospitals and isolated a substance he called “nuclei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dnaftb.org/dnaftb/15/concept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ederick Griffith (1928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116080" y="1981080"/>
            <a:ext cx="4911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rrated animation of what occurred in bacterial cells (keeping in mind that Griffith wouldn’t have understood the mechanism in this much detail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inauer.com/cooper5e/animation0402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2T10:16:36Z</dcterms:created>
  <dc:creator>rubina khan</dc:creator>
  <dc:description/>
  <cp:keywords/>
  <dc:language>en-US</dc:language>
  <cp:lastModifiedBy>rubina khan</cp:lastModifiedBy>
  <dcterms:modified xsi:type="dcterms:W3CDTF">2012-04-14T02:40:38Z</dcterms:modified>
  <cp:revision>95</cp:revision>
  <dc:subject/>
  <dc:title>Molecular Genetics</dc:title>
</cp:coreProperties>
</file>